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9A9-A3DB-42D0-AA76-D8FFA0F6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D19-2BE4-4E82-B871-C4712E37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810-89AC-4703-9AAD-BBC6962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228-F859-49E5-9B9A-6AB88CCB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98BC-66A5-42BB-B0B9-6AEC9024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B6B-9C5F-48E1-92BE-2135BD7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BF81-C8EE-42AD-8219-CDB21DA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DFA1-C9B6-450C-972F-C852BE1F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71C2-2685-444E-B638-03E1CBE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560D-44C2-4056-BB7B-879179F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2523-21EB-4F40-B5FF-C2273C7C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00B-9885-41D9-80B9-78C30006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D5CA-2408-4DB3-A34E-9D337FB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551C-C534-469D-8D63-86447D8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DE5D-42C5-4456-93FE-7A258FD5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2C1-8A82-4DFF-8CF3-DDDD5C63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AC2A-FCAB-4E11-BCB4-90E722F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112E-793C-4E22-B267-F1AED225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9935-EEBF-4815-9C6D-CE8F332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D3654-F83B-46F5-A032-2CDD1BCE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F67D-C292-4F92-9A19-94332F5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F17E-B75B-4A3E-8029-5C02C2D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F47-BD53-4C0B-A153-20C09A4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55C7-D98A-455E-84FA-E1F24F2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7267-774C-4826-8B71-EE4A211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1570-0CA7-4EA3-BF3C-7268E004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7258-2B70-44EE-A277-9F4DE3C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BCD7-9189-45FB-91C5-0F8CFE2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49D4-ADA8-4703-99BD-9AA960A2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3F7F-F24C-4DC6-B5E2-B5A80301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41AF7-A869-453D-9309-440E354C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3C5F-7DAE-41AD-99C0-5D764115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5C6B-1CE4-43E3-9E1A-D3AA1DFD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A01-2A9C-4A32-8209-CBE86A3E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1AE2-494B-4A8F-B3CE-A8305176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3FF8-FBCE-406F-919B-84E2312D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E878-D264-41EC-80A5-11782522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CE158-597F-4CA6-8711-5AFF30E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E7BB-3E16-49B7-B964-5AE042C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AAE8B-CF7F-46AB-A362-F77A475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442A-A9E0-4B5F-8BB0-CFB082A8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5A9B-AB1A-4C45-BB21-C094659B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B2D2-5E1A-4398-9BE7-6597E149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3B51-A64A-4AAD-B962-27DFD451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440-ABED-47AF-B46C-53092620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FF6C7-8BBE-417B-B251-ECE9E33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7082-A7C4-4FB3-AB44-7347D1A2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9267-CB78-470E-8A1B-DD1E9CD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ABA7-DE1D-4F32-A57F-52E8DE5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680D0-04A2-4DF4-8A7F-12DC7FB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D553-09B9-4136-8E21-989B306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CC555-ECA2-44C5-A6A0-CD58FEF1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70C81-778C-468E-B758-5B3DA0F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512C-6D19-452C-8AD9-474AD07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F8D6-1C67-4888-8F04-FB5AB487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219-E94A-45C8-8BC2-F8A1DE33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15169-4E51-42A1-B07B-958629E9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590C-9581-422B-B9F5-203D3A9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2172-0588-4860-857C-F6E5DD3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08DC-FF49-49C0-92C0-8AB8182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3080B-8FF5-4C58-B32F-20F8B207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9688-DDA0-408D-89E2-800BBBA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837D-B4EC-4AB7-8E02-41C6067E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BD58-4287-4793-BC41-6FE1330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8D0F-6466-4A7F-A398-AF7406A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64A6-2AED-4E24-AE70-DB2F097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DD3-96F5-4363-9D63-A67DCDA6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A637-FF4E-4503-8D25-2803094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015B-E2B5-4874-AA11-88F3ACF3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BCC4-BCF9-474A-AA91-CAEF03B1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323E-744C-4D1E-BF26-386DC8CE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C8B2-819B-4ABB-A757-A41C8022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8BC3E-EC22-4DE4-91DF-43C73B6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92F4-235B-499C-A488-4F40E396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E74ED-AFBB-4355-A742-1077D1BE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DA37-D259-41C9-B084-5886A6BD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25A2-F13B-4845-A632-11CC18D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B34-CBF5-4086-BC14-CC3482A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0C0C-000B-4C0C-B992-4FD6C70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99AA-B97E-404E-B839-FC5FEC7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E8D49-85B0-47C1-84A6-540A93B5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E8310-0359-46A7-A428-4D5BA624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43D6-CEE9-4413-A0FB-C2B01A4B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9A079-0FAD-42A2-B474-24A7E347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A0EA-F881-441C-BC49-1047452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B80C-D67F-4217-A9DC-0D820E8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AF52-757C-4013-BD2D-1D31C58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EA0C-7476-483E-BE98-80F3B22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776-7736-46F0-9349-29EEB54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39B92-DED9-4025-BFEC-D8F5286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B0354-8AF2-4777-861C-5E0712A1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626A7-AA29-447A-9D70-E3FA7EE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D9A4-ADD3-4433-B4BC-D334C24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B6A07-4228-49DF-99E2-3DD23823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03080-0694-41D2-9194-DB4E3947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8E1E9-6FE6-4CF6-BB97-ABD1EFD9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BD7F-3497-493F-8C05-EFB74FC5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0521-2A18-4567-B23B-9F6C63455A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235-D8A1-43B3-AF10-F282CC22C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8E9-4F09-49E8-B38C-12411A3A8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C3A-72A1-41E9-9920-727DC327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7A7-BAB4-459E-9813-78F210468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E9B9-8917-4120-97AF-902C64802EC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4F6-43A0-4014-8952-796C43F0525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3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am arrived at the Shoprite store at 4:00 in the afternoon.  He shopped for 2 hours buying school supplies.  Pencils were 15 cents each and erasers were 10 cents each.  A pad of paper was 39 cents.  He saw a box of 4 pens on sale for 46 cen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60948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time did Sam finish shopping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6840" y="1143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Sam bought 3 erasers for each of his 3 younger brothers, how much money did he spend on erase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Sam bought 2 pencils, 1 eraser and a pad of paper, how much money did he spend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Sam bought 28 pencils, how much would he have after he gave 7 pencils to his brother and 6 pencils to his siste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much more would Sam pay for 5 pencils than 5 eraser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21:49:10Z</dcterms:created>
  <dc:creator>127partidak</dc:creator>
  <dc:description/>
  <dc:language>en-US</dc:language>
  <cp:lastModifiedBy>127partidak</cp:lastModifiedBy>
  <dcterms:modified xsi:type="dcterms:W3CDTF">2012-01-02T21:54:10Z</dcterms:modified>
  <cp:revision>1</cp:revision>
  <dc:subject/>
  <dc:title>Information</dc:title>
</cp:coreProperties>
</file>